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912-803D-41A7-B83C-B1468353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FDB-F001-43E2-96AD-334B8D6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374-8F58-429F-A69F-53418B0D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F4C-2ED7-4415-858E-61E7D44D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64B9-FA29-46F5-890C-18333963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898D-6E8F-4E02-803F-FF3471F9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BDB9-DB67-4E9F-BA02-491355C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1047-3D05-40AB-97A6-43EFEFDA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D23-E51F-48AF-B5F5-69F65FDA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E251-B7FF-48CC-8DD6-FD9BAE55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E63C-C95C-4E84-B60D-018E913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9FB-C135-48EF-9DC3-2712CA4A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5571-3996-42A2-A637-6F6127F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8CAE-DC8D-4019-B164-12B4667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0D8-183F-43FB-BB8F-D351FEA7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0881-6E63-4B5D-8CC8-D17A8486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5D9-8D57-491B-8461-834A411D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4DC-962B-417B-9203-D609060B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D9E-890D-4E6B-B483-8C807CE6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53F-07D8-4359-A5D1-272DA31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C4E-2D92-4EE6-94BA-7E5AA627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4C5-ABBC-443F-8CF0-1818C485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18C-98F5-44A1-B372-366D0D9D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34E-0DB9-496B-99F4-EC9DD8D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D9B-EA4B-4278-AB4D-CC59F470E6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8627-36A7-4D86-B261-D11840CAD7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hurnul.milt.rissi.ru/" TargetMode="External"/><Relationship Id="rId2" Type="http://schemas.openxmlformats.org/officeDocument/2006/relationships/hyperlink" Target="http://www.memo.ru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212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оставление библиографического описания: библиографическое описание документа, общие требования</a:t>
            </a:r>
            <a:br>
              <a:rPr sz="40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подготовлено библиотекой ГГПИ</a:t>
            </a:r>
            <a:endParaRPr b="0" lang="en-US" sz="1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Многотомные издания</a:t>
            </a:r>
            <a:r>
              <a:rPr b="0" lang="ru-RU" sz="4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Издание в целом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Гиппиус, З. Н. Сочинения: в 2 т. / З. Н. Гиппиус. – Москва: Лаком-книга: Габестро, 2001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Отдельный том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ерещагин, Г. Е. Собрание сочинений: в 6 т. Т. 3: Этнографические очерки / Г. Е. Верещагин. – Ижевск, 2000. – 251 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Аналитическое описание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Статья из книги</a:t>
            </a:r>
            <a:r>
              <a:rPr b="0" lang="ru-RU" sz="40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тор. Заглавие статьи: сведения, относящиеся к заглавию / сведения об ответственности (авторы статьи) // Заглавие книги: сведения, относящиеся  к заглавию. – Место издания, год издания. – Местоположение статьи (страниц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ванов, С.А. Маркетинг и менеджмент  / С.А. Иванов // Статьи о классиках. – Москва, 2002. – С. 12-3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Статья из газеты</a:t>
            </a:r>
            <a:r>
              <a:rPr b="0" lang="ru-RU" sz="4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втор. Заглавие статьи: сведения, относящиеся к заглавию / сведения об ответственности (авторы статьи) // Название газеты. – Год выпуска. – Число и месяц выпуска. – Местоположение статьи (страницы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иколаева, С. Будем читать. Глядишь, и кризис пройдет…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/ С. Николаева // Северный комсомолец. – 2009. - № 13. – С.  9-1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сев, В. Приоритет – экология / В. Рысев // Волна. – 2010. – 4 марта. – С. 13-1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Статья  из журнала</a:t>
            </a:r>
            <a:r>
              <a:rPr b="0" lang="ru-RU" sz="4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втор. Заглавие статьи: сведения, относящиеся к заглавию / сведения об ответственности (авторы статьи) // Название журнала. – Год выпуска. – Номер выпуска. – Местоположение статьи (страницы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арасова, Н.Г. Смена парадигм в развитии теории и практики градостроительства / Н.Г. Тарасова // Архитектура и строительство России. – 2007. - № 4. – С. 2-7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азаков, Н.А. Запоздалое признание / Н.А. Казаков // На боевом посту. – 2009. - № 9. – С. 64-67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Раздел, глава из книги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лый, А. И. Введение в законодательство Европейского сообщества / А. И. Малый // Институты Европейского союза : учеб. пособие. – Архангельск, 2002. – Разд. 1. – С. 7-2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Статья из энциклопедии, словаря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андейские войны // Энциклопедический словарь Ф. А. Брокгауза и И. А. Ефрона / сост. Н. И. Новиков. – Санкт-Петербург, 1891. – Т. 5. – С. 486 – 487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Ярцева, В. Н. Английский язык / В. Н. Ярцева // Краткая литературная энциклопедия. – Москва, 1962. – Т. 1. – С. 218 – 21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Т 7.82 – 2001 «Библиографическая запись. Библиографическое описание электронных ресурсов. Общие требования и правила соста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Схема библиографического описания электронного рес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ое заглав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[Общее обозначение материала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Параллельное заглавие: сведения, относящиеся к заглавию / сведения об ответственности. ― Сведения об издании. ― Место издания:  Издательство, дата издания. ―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словия доступ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имеры библиографического описания электронных ресурсов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ный ресурс локального доступа (C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тор. Заглавие [Электронный ресурс]: сведения, относящиеся к заглавию / сведения об ответственности (авторы); последующие сведения об ответственности (редакторы, переводчики, коллективы). – Место издания: Издательство, Год издания. –– (Сер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й ресурс локального доступа (CD)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одников, А.Р. Логистика [Электронный ресурс]: терминологический словарь / А.Р. Родников. –– Москва: ИНФРА-М, 2000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Энциклопедия классической музыки [Электронный ресурс]. – Москва: Комминфо, 2000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 и задания к семинарским занятиям по новейшей истории стран Азии и Африки [Электронный ресурс]: пособие для студ. очного отделения ист. фак. / сост. М. В. Змеев; ГГПИ.- Глазов: ГГПИ, 2009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аранин, В. А. Основы квантовой механики [Электронный ресурс]: учеб. пособие / В. А. Саранин. -  Глазов: ГГПИ, 2008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Т 7.1 – 2003 «Библиографическая запись. Библиографическое описание. Общие требования и правила соста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й ресурс удаленного доступа (Internet)</a:t>
            </a:r>
            <a:endParaRPr b="0" lang="en-US" sz="3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тор. Заглавие [Электронный ресурс]: сведения, относящиеся к заглавию / сведения об ответственности (авторы); последующие сведения об ответственности (редакторы, переводчики, коллективы). –– Место издания: Издательство, Дата издания. – Режим доступа: (URL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й ресурс удаленного доступа (Internet)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но в России [Электронный ресурс]: многопредмет. науч. журн. /  Моск. физ.-техн. ин-т. – Долгопрудный: МФТИ, 1998. – режим доступа к журн.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zhurnul.milt.rissi.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онный каталог ГПНТБ России [Электронный ресурс]: база данных содержит сведения о всех видах лит., поступающей в фонд ГПНТБ России. ― Москва, [199―].―Режим доступа: http:/ / www. gpntb. ru/ win/ searcli/ help/ el-cat. htm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принц, Л. Книга художника: от миллионных тиражей – к единичным экземплярам [Электронный ресурс] / Лев Шпринц. –– Москва, 2000. – Режим доступа: http://atbook.km.ru/news/000525.html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одательство и права человека [Электронный ресурс]: документы / При поддержке Фонда Джона Д. и Кэтрин Т. Макартуров. - URL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http://www.memo.ru. 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.01.201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Схема библиографического описания документ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95280" y="1700280"/>
            <a:ext cx="8064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головок описания. Основное заглавие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[Общее обозначение материала]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араллельное заглавие: сведения, относящиеся к заглавию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/ Сведения об ответственности. – Сведения об издании. –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бласть специфических сведений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. – Место издания: Издательство, Дата издания. – Физическая характеристика документа. – (Основное заглавие серии).-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имечания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-24300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хема аналитического библиографического описания документа</a:t>
            </a:r>
            <a:r>
              <a:rPr b="0" lang="ru-RU" sz="40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5120" y="2134800"/>
            <a:ext cx="786132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дения о составной части документа // Сведения об идентифицирующем документе. — Сведения о местоположении составной части в документ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Примеры библиографического описания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ниг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втор. Заглавие: сведения, относящиеся к заглавию (см. на титульном листе) / сведения об ответственности (авторы);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оследующие сведения об ответственности (редакторы, переводчики, коллективы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– Сведения об издании (информация о переиздании, номер издания). – Место издания: Издательство, Год издания. – Объем. –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(Серия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Книга  с 1 автором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Жабина, С.Г. Основы экономики, менеджмента и маркетинга в общественном питании: учеб. пособие / С. Г. Жабина. - Москва: Академия, 2014. - 336 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укаш, Ю.А. Индивидуальный предприниматель без образования юридического лица  / Ю.А. Лукаш.   –Москва: Книжный мир, 2012. – 457 с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Книга с 2 и 3 авторами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лков, М.В. Современная экономика: учеб. для студентов вузов / М.В. Волков, А.В. Сидоров. -  Санкт-Петербург: Питер, 2014.- 155 с.  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ванов, И.И. Современная политика: учеб. пособие / И.И. Иванов, С. И. Петров, В.О. Ковалев. – Москва: Просвещение, 2013. – 552 с. 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Книга  с 4 и более авторами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ая экономика: учебник для вузов / М.В. Коробкин [и др.]. – Санкт-Петербург: Питер, 2014.- 325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соводство: учеб. пособие к курсовому проектированию / З.В. Ерохина [и др.].  –Красноярск: Изд-во СибГТУ, 2008. - 175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гика: учеб. пособие для 10-11 классов / А.Д. Гетманова [и др.]. – Москва: Дрофа, 2005. – 156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Многотомные издания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Издание в целом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Автор. Заглавие издания: сведения, относящиеся к заглавию (см. на титульном листе) / Сведения об ответственности (автор). – Город издания: Издательство, Год изда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Отдельный том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Автор. Заглавие издания: сведения, относящиеся к заглавию (см. на титульном листе). Обозначение и номер тома: Заглавие тома / Сведения об ответственности (автор). – Город издания, год издания тома. – Объем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1:20:26Z</dcterms:created>
  <dc:creator>компьютер 12</dc:creator>
  <dc:description/>
  <dc:language>en-US</dc:language>
  <cp:lastModifiedBy>Учебное управление</cp:lastModifiedBy>
  <dcterms:modified xsi:type="dcterms:W3CDTF">2018-03-21T07:41:40Z</dcterms:modified>
  <cp:revision>15</cp:revision>
  <dc:subject/>
  <dc:title>Составление библиографического описания: библиографическое описание документа, общие требования</dc:title>
</cp:coreProperties>
</file>