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9DB-8A2B-4C00-A8A8-71ED7D57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EB4-4B21-4B46-9A0D-11D7FA77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C9B-B519-48C9-A727-55BD54D4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774-3281-472B-872F-8B9CFE5E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ED61-5EDA-4268-8405-2689CE57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B21A-FCE6-45E8-BA22-B2DE38A7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B78C-1156-43DA-8D26-E7787B41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EBA4-B0C1-415D-B72A-0D2737C7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F157-357C-492F-A50B-E3D2B97C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F69A-887C-4C9B-A0A7-AC49BD16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DBC8-EE60-4166-AA06-4188D2FE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0F2E-8463-4B51-A865-EF362B1B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04DA-BE65-4639-A92D-3A13DC5E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1A2A-3C5D-4B77-8875-F11FD584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6615-E84D-4578-BEA5-EFC79B41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4545-ADB4-4D37-801E-C01997E4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4117-45A2-4A1D-B1E6-A13CF339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AF6E0-DCC2-4D1F-974E-47FC6F04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0D9DF-D986-4D8E-8F4A-61D9A5E7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4DE85-E1D0-44B3-A492-6D97380F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9EE0B-B51C-4664-BC7A-B371F219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5AD3-A385-4B9B-8590-C75C4AF2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5E5-E12C-48CD-87C7-E92E680C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22A25-5F73-4704-BF86-493C916A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1F968-C1D1-4FC4-A801-6C9F0ED7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5880-DC43-4565-8CB3-80E7E976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790F4-D518-464A-BCA9-147CBB7D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5E8A4-6AD8-4D71-AD32-46CA99F6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E967-A9A7-4C45-8C30-EE817ADA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40E22-61E2-46E4-9339-C2DB0D6B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C98B3-9BB3-4EEA-8632-6661764D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8677-1F1C-490F-964E-71DA192E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C4C6C-F8B1-41EE-BBA5-4ED0CFEC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8AF-C61D-4E28-B190-9CBF36A0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86B64-FD8A-4F84-8B7F-52D55C86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6146C-A80B-4F7A-8202-74F153E8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B284-40C6-4C7E-9040-12A58B6A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13D13-0D82-4C0D-91AF-A4D47935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3FF85-FFF8-4AE1-81CB-45A1114A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516CD-242D-42B7-9868-CBD5EEBD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411C9-4FDB-4455-B522-D77DEA96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58BC4-EE28-47F8-8034-D808CC0C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08DEA-096D-4A72-A226-AA95820B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727-F5AA-45F2-B9DA-2C4F29F8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F1C-E587-41A2-9ADA-5EFA8132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9FB-74AA-4FB8-A68F-022B9B57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D45-3055-4364-8F76-8329BFBD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FEA-8CCF-410C-8BB3-79C22422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FACF-88FF-4488-93B0-F9C8BDCD558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32B7-7A9B-4830-95FE-59ADA9109ED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3DC7-E18E-4132-A06A-D2CA70327FC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F9FE-95F1-40E4-90BF-B914DA17671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741996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И.о. зав. кафедрой ИЯ и МП М.В. Максимов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324000" y="-12600"/>
            <a:ext cx="86439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69800" y="4791240"/>
            <a:ext cx="8253360" cy="2182680"/>
          </a:xfrm>
          <a:prstGeom prst="rect">
            <a:avLst/>
          </a:prstGeom>
          <a:ln w="0">
            <a:noFill/>
          </a:ln>
        </p:spPr>
      </p:pic>
      <p:pic>
        <p:nvPicPr>
          <p:cNvPr id="234" name="Объект 5" descr=""/>
          <p:cNvPicPr/>
          <p:nvPr/>
        </p:nvPicPr>
        <p:blipFill>
          <a:blip r:embed="rId2"/>
          <a:stretch/>
        </p:blipFill>
        <p:spPr>
          <a:xfrm>
            <a:off x="1092240" y="681120"/>
            <a:ext cx="650232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1695600" y="5151600"/>
            <a:ext cx="7643520" cy="21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468360" y="404640"/>
          <a:ext cx="8280360" cy="4892760"/>
        </p:xfrm>
        <a:graphic>
          <a:graphicData uri="http://schemas.openxmlformats.org/drawingml/2006/table">
            <a:tbl>
              <a:tblPr/>
              <a:tblGrid>
                <a:gridCol w="3959280"/>
                <a:gridCol w="2232000"/>
                <a:gridCol w="2089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читаете ли Вы, что ИЯ необходим Вам в жизн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Хотели бы Вы продолжить изучение ИЯ по окончании 2 курс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3,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отовы ли Вы вкладывать личные средства в обучение И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7,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324000" y="4937040"/>
            <a:ext cx="8723160" cy="2176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610920" y="549360"/>
            <a:ext cx="8281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сновные проблемы, связанные с изучением ИЯ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Учебная литература морально устарел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щущается нехватка программного и технического обеспечения: оборудованных наушниками компьютерных классов, специализированных программ, лингафонного кабинет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9280" y="68400"/>
          <a:ext cx="8640720" cy="6780240"/>
        </p:xfrm>
        <a:graphic>
          <a:graphicData uri="http://schemas.openxmlformats.org/drawingml/2006/table">
            <a:tbl>
              <a:tblPr/>
              <a:tblGrid>
                <a:gridCol w="2059200"/>
                <a:gridCol w="2212920"/>
                <a:gridCol w="334800"/>
                <a:gridCol w="325440"/>
                <a:gridCol w="327240"/>
                <a:gridCol w="218880"/>
                <a:gridCol w="298440"/>
                <a:gridCol w="268560"/>
                <a:gridCol w="241200"/>
                <a:gridCol w="247680"/>
                <a:gridCol w="185760"/>
                <a:gridCol w="183960"/>
                <a:gridCol w="241200"/>
                <a:gridCol w="1495440"/>
              </a:tblGrid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4979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одуль 1. Английский язык в общих целя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ммуникативная грамматика. Коммуникация в рамках повседневного общения. Социокультурный аспек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исциплина Б.1.2.1 модуля Коммуникативная культура педагога (1, 2 семест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4979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одуль 2. Английский язык в учебных цел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ммуникативная грамматика. Письменная и устная коммуникация в учебных целях. Основы работы с учебным тексто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исциплина Б.1.2.1 модуля Коммуникативная культура педагога (3,4 семестр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776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одуль 3. Английский язык в прфессиональных цел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щение в рамках профессиональной тематики. Письменная коммуникация в професиональной сфере: электронная переписка, написание резюме, сопроводительного письма, рекоменадтельного письма, составлене презента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5-6 семестрах читается в рамках факультатива 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110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одуль 4. Научно-ориентированный моду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обенности англоязычного научного стиля. Перевод научно-технических текстов. Написание аннотаций, ключевых слов на английском язык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 семестр, факультатив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109440" y="5151600"/>
            <a:ext cx="9053640" cy="1498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179280" y="188640"/>
            <a:ext cx="885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rebuchet MS"/>
              </a:rPr>
              <a:t>Модуль 1. Иностранный язык в общих целях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rebuchet MS"/>
              </a:rPr>
              <a:t>Раздел 1. Личность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rebuchet MS"/>
              </a:rPr>
              <a:t>Раздел 2. Культурное многообразие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4ac8b"/>
                </a:solidFill>
                <a:latin typeface="Trebuchet MS"/>
              </a:rPr>
              <a:t>Модуль 2. Иностранный в учебных целях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4ac8b"/>
                </a:solidFill>
                <a:latin typeface="Trebuchet MS"/>
              </a:rPr>
              <a:t>Раздел 1. Мировая культур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4ac8b"/>
                </a:solidFill>
                <a:latin typeface="Trebuchet MS"/>
              </a:rPr>
              <a:t>Раздел 2. Мировое образование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Модуль 3. Иностранный язык в профессиональных целях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Раздел 1. Работа с профессионально-ориентированными текстам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Раздел 2. Стратегии речевого поведен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808e2"/>
                </a:solidFill>
                <a:latin typeface="Trebuchet MS"/>
              </a:rPr>
              <a:t>Модуль 4. Научно-ориентированный модуль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542880" y="4791240"/>
            <a:ext cx="8472600" cy="1500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24000" y="731520"/>
            <a:ext cx="8496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нести корректировки в рабочие программы дисциплины «Иностранный язык», начать их внедрение с 2016/2017 уч. г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знать необходимым обновление материально-технической базы и фонда литературы для модернизации подготовки обучающихся по дисциплине «Иностранный язык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 algn="just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знать необходимым введение факультатива «Иностранный язык в академических целях» Для подготовки группы  обучающихся ГГПИ, обладающих хорошим научным потенциалом и владеющих английским языком на уровне не ниже В1, для участия в грантовых программах, программах академического обмена, международных конференциях. С этой целью на основе входного тестирования отобрать две группы обучающихся 3-4 курсов  неязыковых профилей численностью по 12 человек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46" name="Заголовок 2" descr=""/>
          <p:cNvPicPr/>
          <p:nvPr/>
        </p:nvPicPr>
        <p:blipFill>
          <a:blip r:embed="rId1"/>
          <a:stretch/>
        </p:blipFill>
        <p:spPr>
          <a:xfrm>
            <a:off x="396720" y="1206360"/>
            <a:ext cx="842328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79200" y="5224320"/>
            <a:ext cx="8491680" cy="1500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79280" y="731520"/>
            <a:ext cx="8785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еобходимо обеспечить участие студентов всех профилей в программах академической мобильности, международного обмена, грантовых программах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едостаточный уровень иноязычной компетенции студентов неязыковых профилей ограничивает их возможность к участию в международной деятельност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ак следствие, необходимо модернизировать содержание подготовки по ИЯ и координировать его с потребностями вуза, а также с международными стандартам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 algn="just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. 6.4. Дисциплины по философии, истории, иностранному языку и безопасности жизнедеятельности реализуются в базовом блоке Б1. Объем и содержание дисциплин определяется организацией самостоятельно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1115640" y="333360"/>
            <a:ext cx="7821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384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ОК-4: 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роявляет способность к коммуникации в устной и письменной формах на русском и иностранном языках для решения задач межличностного и межкультурного взаимодейств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8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ОК-5: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обладает способностью работать в команде, толерантно воспринимая социальные, этнические, конфессиональные и культурные различия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8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8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8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8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09440" y="4187880"/>
            <a:ext cx="9131400" cy="249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900000" y="333360"/>
          <a:ext cx="7128000" cy="5033880"/>
        </p:xfrm>
        <a:graphic>
          <a:graphicData uri="http://schemas.openxmlformats.org/drawingml/2006/table">
            <a:tbl>
              <a:tblPr/>
              <a:tblGrid>
                <a:gridCol w="2795760"/>
                <a:gridCol w="4332240"/>
              </a:tblGrid>
              <a:tr h="783720">
                <a:tc rowSpan="2">
                  <a:txBody>
                    <a:bodyPr lIns="42840" rIns="42840" tIns="26640" bIns="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Элементарное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ладение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Basic Us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840" rIns="42840" tIns="26640" bIns="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1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ровень выживания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eakthroug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26640" bIns="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2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едпороговый уровень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ystag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83720">
                <a:tc rowSpan="2">
                  <a:txBody>
                    <a:bodyPr lIns="42840" rIns="42840" tIns="26640" bIns="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амостоятельное владение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Independent Us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840" rIns="42840" tIns="26640" bIns="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1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роговый уровень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reshol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8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26640" bIns="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2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роговый продвинутый уровень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Vantag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83720">
                <a:tc rowSpan="2">
                  <a:txBody>
                    <a:bodyPr lIns="42840" rIns="42840" tIns="26640" bIns="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вободное владение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Proficient Us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840" rIns="42840" tIns="26640" bIns="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1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ровень профессионального владения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Effective Operational Proficienc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8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26640" bIns="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2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ровень владения в совершенстве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Maste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7323120" y="-124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89000" y="4900680"/>
            <a:ext cx="9004320" cy="162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539640" y="333360"/>
          <a:ext cx="8209080" cy="4248000"/>
        </p:xfrm>
        <a:graphic>
          <a:graphicData uri="http://schemas.openxmlformats.org/drawingml/2006/table">
            <a:tbl>
              <a:tblPr/>
              <a:tblGrid>
                <a:gridCol w="560520"/>
                <a:gridCol w="5186520"/>
                <a:gridCol w="1353960"/>
                <a:gridCol w="1108080"/>
              </a:tblGrid>
              <a:tr h="4248000">
                <a:tc>
                  <a:txBody>
                    <a:bodyPr lIns="60840" rIns="60840" tIns="30600" bIns="306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0840" rIns="60840" tIns="30600" bIns="306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нимаю и могу употребить в речи знакомые фразы и выражения, необходимые для выполнения конкретных задач. Могу представиться/представить других, задавать/отвечать на вопросы о месте жительства, знакомых, имуществе. Могу участвовать в несложном разговоре, если собеседник говорит медленно и отчетливо и готов оказать помощ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0840" rIns="60840" tIns="30600" bIns="306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0 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0840" rIns="60840" tIns="30600" bIns="306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2 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42880" y="4187880"/>
            <a:ext cx="7918560" cy="204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826920" y="476280"/>
          <a:ext cx="7848720" cy="4329000"/>
        </p:xfrm>
        <a:graphic>
          <a:graphicData uri="http://schemas.openxmlformats.org/drawingml/2006/table">
            <a:tbl>
              <a:tblPr/>
              <a:tblGrid>
                <a:gridCol w="535320"/>
                <a:gridCol w="4959360"/>
                <a:gridCol w="1295280"/>
                <a:gridCol w="1058760"/>
              </a:tblGrid>
              <a:tr h="4635360">
                <a:tc>
                  <a:txBody>
                    <a:bodyPr lIns="60840" rIns="60840" tIns="30600" bIns="306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0840" rIns="60840" tIns="30600" bIns="306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нимаю отдельные предложения и часто встречающиеся выражения, связанные с основными сферами жизни (например, основные сведения о себе и членах своей семьи, покупках, устройстве на работу и т. п.). Могу выполнить задачи, связанные с простым обменом информацией на знакомые или бытовые темы. В простых выражениях могу рассказать о себе, своих родных и близких, описать основные аспекты повседневной жизн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0840" rIns="60840" tIns="30600" bIns="306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0 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0840" rIns="60840" tIns="30600" bIns="306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4 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682560" y="4541760"/>
            <a:ext cx="8223480" cy="200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900000" y="404640"/>
          <a:ext cx="7920000" cy="4176720"/>
        </p:xfrm>
        <a:graphic>
          <a:graphicData uri="http://schemas.openxmlformats.org/drawingml/2006/table">
            <a:tbl>
              <a:tblPr/>
              <a:tblGrid>
                <a:gridCol w="540000"/>
                <a:gridCol w="5005080"/>
                <a:gridCol w="1305000"/>
                <a:gridCol w="1069920"/>
              </a:tblGrid>
              <a:tr h="4176720">
                <a:tc>
                  <a:txBody>
                    <a:bodyPr lIns="60840" rIns="60840" tIns="30600" bIns="30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0840" rIns="60840" tIns="30600" bIns="30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имаю основные идеи четких сообщений, сделанных на литературном языке на разные темы, типично возникающие на работе, учёбе, досуге и т. д. Умею общаться в большинстве ситуаций, которые могут возникнуть во время пребывания в стране изучаемого языка. Могу составить связное сообщение на известные или особо интересующие меня темы. Могу описать впечатления, события, надежды, стремления, изложить и обосно­вать свое мнение и планы на будуще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0840" rIns="60840" tIns="30600" bIns="30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 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0840" rIns="60840" tIns="30600" bIns="30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 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396720" y="4900680"/>
            <a:ext cx="8771040" cy="15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826920" y="620640"/>
          <a:ext cx="7848720" cy="4321080"/>
        </p:xfrm>
        <a:graphic>
          <a:graphicData uri="http://schemas.openxmlformats.org/drawingml/2006/table">
            <a:tbl>
              <a:tblPr/>
              <a:tblGrid>
                <a:gridCol w="535320"/>
                <a:gridCol w="4959360"/>
                <a:gridCol w="1295280"/>
                <a:gridCol w="1058760"/>
              </a:tblGrid>
              <a:tr h="4321080">
                <a:tc>
                  <a:txBody>
                    <a:bodyPr lIns="60840" rIns="60840" tIns="30600" bIns="306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0840" rIns="60840" tIns="30600" bIns="306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нимаю общее содержание сложных текстов на абстрактные и конкретные темы, в том числе узкоспециальные тексты. Говорю достаточно быстро и спонтанно, чтобы постоянно общаться с носителями языка без особых затруднений для любой из сторон. Я умею делать четкие, подробные сообщения на различные темы и изложить свой взгляд на основную проблему, показать преимущество и недостатки разных мнен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0840" rIns="60840" tIns="30600" bIns="306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1 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0840" rIns="60840" tIns="30600" bIns="306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2 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16:05:01Z</dcterms:created>
  <dc:creator>Marimax</dc:creator>
  <dc:description/>
  <dc:language>en-US</dc:language>
  <cp:lastModifiedBy>Maxiki</cp:lastModifiedBy>
  <dcterms:modified xsi:type="dcterms:W3CDTF">2016-04-28T20:52:48Z</dcterms:modified>
  <cp:revision>15</cp:revision>
  <dc:subject/>
  <dc:title>ФГБОУ ВПО «Глазовский государственный  педагогический институт имени В.Г. Короленко»  Историко-лингвистический факультет  Кафедра иностранных языков и методики преподавания  Содержание и качество подготовки студентов по дисциплине "Иностранный язык</dc:title>
</cp:coreProperties>
</file>